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72C-8AD5-43A4-BA19-2CB46A42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A86-02F7-487E-9117-83A4C26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7E07-610E-4DF1-99A2-2BF2AF9B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261-F594-4ADF-8EAC-C7C79ABD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FACA-AA2B-45EE-A954-1129EDFE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8A9A-5F4A-40A1-8B11-83A4337C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3EC-0B38-4866-9C4A-2F69BC8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250-3790-4CAD-9C23-F11EBF2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D6A-566E-499B-8B9D-308648B3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B65F-051B-48CD-9CD8-8FCBD45F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33F-A706-4557-B0DB-7EEDF44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B92-BF4E-418A-B7EC-306B1B1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47C6-231D-48D3-BE80-6BD0EA9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A10-ECC9-4572-AED3-5E8BD03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08D6-AF8D-4A25-A482-DE34EE5C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574B-C9A8-4FEB-9F42-C400ABF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5D1-1DCB-4857-8068-601625D7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7616-064F-4560-B296-6F3ACCCC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D949-DFD2-455A-AD1C-74C3E00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753D-4305-406A-99AD-24C3FBB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D7B1-C783-4F22-855A-CD4D6DC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D5D1-B6A3-4C4F-A0A9-41B67C7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2E8-0FFF-4941-901B-639EFC3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701B-552C-4DBD-BB1D-58E915CC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838D-ABB0-4A23-AF1C-AC6666B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2E06F-5E5D-4CD0-B875-6055C48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1BD1-FF85-481A-865E-6A7216B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2C74-8DE2-4FE1-8663-20A6A9B6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02F8-25E8-428B-A3BB-079C3F70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0897-4A7A-4C6D-8693-5BDFD7BD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32E8-3784-427C-A242-EB5B4A91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335E-C76D-42DD-8C08-77DF379E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8D8D-1818-43B5-A42F-5125C430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513-F88E-4308-AFDE-C6CAF082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7D69-7E11-434A-850E-9E07B73C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4FB6-5A73-4BF7-8005-32DD1F6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D084-9A0A-4A04-A042-D616457D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5907-6082-4B24-A650-ADBF2475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C6EA-C4C5-49E1-9CE9-693A31E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13A7-5868-4DC3-AAF8-1EEB507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92AB-5AC0-42AA-9438-4E5DD3FA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D8EB-238F-45A1-8506-CD025343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5421-5ECC-478D-8E2D-8D74EF03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29EDE-E9AF-4215-A61F-E1F55C80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256-2787-4C20-81B6-BC7F8C7C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FD2D0-8E8F-46C3-B40D-AB63EF9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9708A-4D27-4AC5-A354-FC937386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592D0-E22C-4BC2-ACC7-B27EF783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D7C67-817B-478A-87DA-92B0BAF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490F2-1413-48EE-B905-1614CC42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13022-6A84-4301-9434-8FB35A2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5105D-2F2D-4FC2-BFDB-19C6A3A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F93E5-8F42-422E-B344-D9BD921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DC7E1-0B0B-4458-B832-98A60FC1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4D919-97D3-400F-B72B-BA07324F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02D-F3E0-412C-B8C0-DCE08BC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EEDAA-8737-4EF4-BE0F-B5648B9D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B4E3-9E93-47F4-AFE0-CE698397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AB99-BB3A-4967-ADC3-45AEBA7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3E844-AFE8-44CA-87C4-780175C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B3E0-3035-410E-B296-32851970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A6FD-2717-403F-A00D-C0D4E31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E6455-54D3-485D-81A4-99BCB953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2E0A2-4C25-4AE3-8096-7ED2708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030C-EF12-4C6B-9D1C-B068A68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1B9C-07F5-4734-9D76-F7131C7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F68-ECD0-42FC-90B5-FFD6453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CE0C3-5689-496F-AB9C-4B75A8A8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DB92-390D-4948-A9F3-A4A97D77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9455-5B95-4CA5-88EC-F549C301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57BA9B-AAFA-4E02-9458-C00767BA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9230F5-DA1E-4FE5-90A1-CC5F39EF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1FD5E8-186D-4592-8741-C863B80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18CF0-859F-4E50-A236-CE583EB7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0195A2-1F15-4D21-84F3-09532AF9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12846A-1F57-4E89-81E5-17B68044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7458F1-E8DE-4BEE-A630-EA18879F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5DF-C28B-47B5-B236-980154C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F5C3E-3E3A-4759-B5FD-F3CCF0B2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5DAD8-7FBF-4C86-8323-A914CBC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B60DA0-3429-4850-9E76-FE817B42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FA1EA4-B1B3-4D2E-94CE-BD29B103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EAC15-063C-43EE-A279-152408E9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75A-C594-4856-BE4D-E5DE38E4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DD68-1185-4149-851D-E35C986FB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D6B-0DC5-4F9B-BC83-16B14FC1916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A5E-F1E3-4161-AB05-87C486B6823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2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9999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9999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2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9999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009999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9999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009999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799"/>
                </a:spcBef>
                <a:buClr>
                  <a:srgbClr val="009999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08C5-77AA-40C7-84F0-812BED4CDFB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250-2E52-491B-AF44-9340F99DC0A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396-16B2-43E3-A4AE-DD2D426F65B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29BC-98E7-47B6-9C8D-0C2D7BC1C7C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04" name="Picture 2" descr="C:\Documents and Settings\Admin\Рабочий стол\закон.jpg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30492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1cbb"/>
                </a:solidFill>
                <a:latin typeface="Tahoma"/>
              </a:rPr>
              <a:t>Тема:    Правонаруш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одитель автомобиля решил проскочить на красный свет светофора, опаздывая на работу. Пешеходов и машин вблизи не бы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одитель автомобиля решил проскочить на красный свет светофора, опаздывая на работу. Пешеходов и машин вблизи не было. Но вдруг на дорогу выбежал мальчик, водитель не успел затормозить, и мальчик получил увеч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191120" cy="301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3046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600" spc="-1" strike="noStrike">
                <a:solidFill>
                  <a:srgbClr val="0b1cbb"/>
                </a:solidFill>
                <a:latin typeface="Arial"/>
              </a:rPr>
              <a:t>Признаки преступл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762120" y="228456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b1cbb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Совершенное должно быть очень  опасным для человека, общества 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b1cbb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Деяние должно нарушать нормы уголовного пр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b1cbb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b1cbb"/>
                </a:solidFill>
                <a:latin typeface="Tahoma"/>
              </a:rPr>
              <a:t>Человек должен быть виновен в содеян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990360" y="6854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уп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иновное противоправное деяние, имеющее меньшую степень опасности по сравнению с преступл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щественно опасное виновное деяние, предусмотренное уголовным законодатель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67616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у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14264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рные 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правонарушен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инистративны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правонарушен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ские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правонарушен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38480" y="114264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упки, нарушающие установленную дисциплину и обязательный регламен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упки, посягающие на установленный порядок государственного управления, институт собственности, права и законные интересы граждан, а также нарушение обязательных правил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тупки, совершённые в сфере имущественных и связанных с ними личных неимущественных отно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Organization Chart 7"/>
          <p:cNvGrpSpPr/>
          <p:nvPr/>
        </p:nvGrpSpPr>
        <p:grpSpPr>
          <a:xfrm>
            <a:off x="533520" y="533520"/>
            <a:ext cx="7999920" cy="5486040"/>
            <a:chOff x="533520" y="533520"/>
            <a:chExt cx="7999920" cy="5486040"/>
          </a:xfrm>
        </p:grpSpPr>
        <p:cxnSp>
          <p:nvCxnSpPr>
            <p:cNvPr id="359" name="_s3076"/>
            <p:cNvCxnSpPr>
              <a:stCxn id="360" idx="1"/>
              <a:endCxn id="361" idx="2"/>
            </p:cNvCxnSpPr>
            <p:nvPr/>
          </p:nvCxnSpPr>
          <p:spPr>
            <a:xfrm rot="10800000">
              <a:off x="2932560" y="1316520"/>
              <a:ext cx="800640" cy="431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2" name="_s3077"/>
            <p:cNvCxnSpPr>
              <a:stCxn id="363" idx="1"/>
              <a:endCxn id="361" idx="2"/>
            </p:cNvCxnSpPr>
            <p:nvPr/>
          </p:nvCxnSpPr>
          <p:spPr>
            <a:xfrm rot="10800000">
              <a:off x="2932560" y="1316520"/>
              <a:ext cx="800640" cy="3135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4" name="_s3078"/>
            <p:cNvCxnSpPr>
              <a:stCxn id="365" idx="1"/>
              <a:endCxn id="361" idx="2"/>
            </p:cNvCxnSpPr>
            <p:nvPr/>
          </p:nvCxnSpPr>
          <p:spPr>
            <a:xfrm rot="10800000">
              <a:off x="2932560" y="1316520"/>
              <a:ext cx="800640" cy="1959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6" name="_s3079"/>
            <p:cNvCxnSpPr>
              <a:stCxn id="367" idx="1"/>
              <a:endCxn id="361" idx="2"/>
            </p:cNvCxnSpPr>
            <p:nvPr/>
          </p:nvCxnSpPr>
          <p:spPr>
            <a:xfrm rot="10800000">
              <a:off x="2932560" y="1316520"/>
              <a:ext cx="800640" cy="78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1" name="_s3080"/>
            <p:cNvSpPr/>
            <p:nvPr/>
          </p:nvSpPr>
          <p:spPr>
            <a:xfrm>
              <a:off x="533520" y="533520"/>
              <a:ext cx="4799880" cy="783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остав преступл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_s3081"/>
            <p:cNvSpPr/>
            <p:nvPr/>
          </p:nvSpPr>
          <p:spPr>
            <a:xfrm>
              <a:off x="3733560" y="1708920"/>
              <a:ext cx="4799880" cy="783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УБЪЕКТ ( человек, люди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_s3082"/>
            <p:cNvSpPr/>
            <p:nvPr/>
          </p:nvSpPr>
          <p:spPr>
            <a:xfrm>
              <a:off x="3733560" y="2884680"/>
              <a:ext cx="4799880" cy="783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ОБЪЕК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_s3083"/>
            <p:cNvSpPr/>
            <p:nvPr/>
          </p:nvSpPr>
          <p:spPr>
            <a:xfrm>
              <a:off x="3733560" y="4060080"/>
              <a:ext cx="4799880" cy="783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УБЪЕКТИВНАЯ СТОРО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вина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_s3084"/>
            <p:cNvSpPr/>
            <p:nvPr/>
          </p:nvSpPr>
          <p:spPr>
            <a:xfrm>
              <a:off x="3733560" y="5235840"/>
              <a:ext cx="4799880" cy="783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ОБЪЕКТИВНАЯ СТОРОН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поступок запрещенны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УК РФ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565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75d1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ванов, Сидоров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нкт обмена валюты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а в виде прямого умысла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рабеж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ын 16лет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доровье шофер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а в форме неосторожности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ступление, нанесение телесных поврежд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оринов по преступлению: вовлечение несовершеннолетних, ребята по факту кражи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мущество профессора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ямой умысел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ра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улков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вартира Ивановой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ямой умысел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отив соб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7086600" y="51055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14200"/>
            <a:ext cx="61722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государственные:</a:t>
            </a:r>
            <a:r>
              <a:rPr b="1" i="1" lang="ru-RU" sz="1800" spc="-1" strike="noStrike">
                <a:solidFill>
                  <a:srgbClr val="0b1cb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реступления против государства): диверсия, террористический акт, пропаганда войны, национальной роз­ни, шпионаж, бандитизм (организация вооруженных банд с целью нападения на объекты, людей и т. д.), массовые беспорядки и т. п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против личности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елесные повреждения, изнасилование, убийство, оскорбление, клевета и т. д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против собственности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щение, вымогательство, раз­бой, мошенничество и т. д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хозяйственны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законная охота, рыбная ловля, занятия запрещенным промыслом и т. д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должностные:</a:t>
            </a:r>
            <a:r>
              <a:rPr b="1" i="1" lang="ru-RU" sz="1800" spc="-1" strike="noStrike">
                <a:solidFill>
                  <a:srgbClr val="0b1cbb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взятки, дача взятки, злоупотреб­ление служебным положением и т. д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против правосудия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домо ложный донос, заведомо не­законный арест или задержание и т. п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против порядка управления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тивление представителю власти, оскорбление работника правоохранительных органов и т. п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против общественной безопасности, общественного по­рядк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н транспортного средства, хищение оружия и боеприпа­сов и т. д.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1c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b1cbb"/>
                </a:solidFill>
                <a:uFillTx/>
                <a:latin typeface="Arial"/>
              </a:rPr>
              <a:t>Воинск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зертирство, мародерство, неповиновение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4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565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1536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СТУПЛЕНИЯ: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   3   6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Е ПРАВОНАРУШЕНИЯ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 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: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4   7   9   10  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ЦИПЛИНАРНЫЕ ПРАВОНАРУШЕНИЯ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8a"/>
                </a:solidFill>
                <a:latin typeface="Arial"/>
              </a:rPr>
              <a:t>Правила написания синкве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56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строка 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одно слово- название стихотворения, тема, обычно существитель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ва прилагательных, раскрывающих тему синквей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ри глагола, описывающих действия по теме синквей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раза, предложение, цитата или крылатое выражение, выражающее свое  отношение к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стро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лово-резюме, дающее новую интерпретацию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d8a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редное опасно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рушают  вредят  судят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тиворечит  требованиям  правовых нор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C:\Documents and Settings\Admin\Рабочий стол\закон1.jpg"/>
          <p:cNvPicPr/>
          <p:nvPr/>
        </p:nvPicPr>
        <p:blipFill>
          <a:blip r:embed="rId1"/>
          <a:stretch/>
        </p:blipFill>
        <p:spPr>
          <a:xfrm>
            <a:off x="4495680" y="2362320"/>
            <a:ext cx="4648320" cy="42433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нарушение и его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нару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 прест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42 стр. 197-20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№1-3 стр. 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5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808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1219320" y="9907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1cbb"/>
                </a:solidFill>
                <a:latin typeface="Tahoma"/>
              </a:rPr>
              <a:t>Правонарушение и его призна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752480" y="1828800"/>
            <a:ext cx="7010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Tahoma"/>
              </a:rPr>
              <a:t>Правонарушени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это противоправное деяние, причиняющее вред личности, государству, обществу и наказуемое по закон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9999"/>
                </a:solidFill>
                <a:uFillTx/>
                <a:latin typeface="Tahoma"/>
              </a:rPr>
              <a:t>Правонарушение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– это виновное общественно опасное деяние, которое совершает дееспособный субъект  и которое противоречит прав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99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75d1"/>
                </a:solidFill>
                <a:latin typeface="Arial"/>
              </a:rPr>
              <a:t>Признаки правонаруш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Деяние (действие или бездействи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Противопра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бщественная  опасность (вредный результа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Юридическая ответственность (наказуем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Причинная связь между деянием и вредным результа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Вино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b1cbb"/>
                </a:solidFill>
                <a:latin typeface="Arial"/>
              </a:rPr>
              <a:t>ВИНА- это психическое отношение       правонарушителя к собствен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b1cbb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b1cbb"/>
                </a:solidFill>
                <a:latin typeface="Arial"/>
              </a:rPr>
              <a:t>поведению  и его результ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209680" cy="14860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яный дебошир открыл стрельбу на улице, в результате которой были ранены прохож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итель ведет автомобиль на недозволенно высокой скорости, рассчитывая на свой профессионализм, и вдруг сбивает пеш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Киселев совершил кражу компьютера из кабинета физики средней школы №32 г. Лы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ристы оставили  костер в лесу, в результате которого случился пож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Organization Chart 8"/>
          <p:cNvGrpSpPr/>
          <p:nvPr/>
        </p:nvGrpSpPr>
        <p:grpSpPr>
          <a:xfrm>
            <a:off x="380880" y="457200"/>
            <a:ext cx="8610120" cy="5823720"/>
            <a:chOff x="380880" y="457200"/>
            <a:chExt cx="8610120" cy="5823720"/>
          </a:xfrm>
        </p:grpSpPr>
        <p:cxnSp>
          <p:nvCxnSpPr>
            <p:cNvPr id="319" name="_s1028"/>
            <p:cNvCxnSpPr>
              <a:stCxn id="320" idx="1"/>
              <a:endCxn id="321" idx="2"/>
            </p:cNvCxnSpPr>
            <p:nvPr/>
          </p:nvCxnSpPr>
          <p:spPr>
            <a:xfrm rot="10800000">
              <a:off x="5641920" y="4705920"/>
              <a:ext cx="465480" cy="1045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" name="_s1029"/>
            <p:cNvCxnSpPr>
              <a:stCxn id="321" idx="0"/>
              <a:endCxn id="323" idx="2"/>
            </p:cNvCxnSpPr>
            <p:nvPr/>
          </p:nvCxnSpPr>
          <p:spPr>
            <a:xfrm flipV="1">
              <a:off x="5642640" y="3122640"/>
              <a:ext cx="3600" cy="49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" name="_s1030"/>
            <p:cNvCxnSpPr>
              <a:stCxn id="325" idx="1"/>
              <a:endCxn id="326" idx="2"/>
            </p:cNvCxnSpPr>
            <p:nvPr/>
          </p:nvCxnSpPr>
          <p:spPr>
            <a:xfrm rot="10800000">
              <a:off x="1815120" y="4710240"/>
              <a:ext cx="465480" cy="1041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" name="_s1031"/>
            <p:cNvCxnSpPr>
              <a:stCxn id="326" idx="0"/>
              <a:endCxn id="328" idx="2"/>
            </p:cNvCxnSpPr>
            <p:nvPr/>
          </p:nvCxnSpPr>
          <p:spPr>
            <a:xfrm flipV="1">
              <a:off x="1815840" y="3122640"/>
              <a:ext cx="3600" cy="492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" name="_s1032"/>
            <p:cNvCxnSpPr>
              <a:stCxn id="323" idx="0"/>
              <a:endCxn id="330" idx="2"/>
            </p:cNvCxnSpPr>
            <p:nvPr/>
          </p:nvCxnSpPr>
          <p:spPr>
            <a:xfrm flipV="1" rot="16200000">
              <a:off x="4439520" y="823320"/>
              <a:ext cx="492120" cy="1914120"/>
            </a:xfrm>
            <a:prstGeom prst="bentConnector3">
              <a:avLst>
                <a:gd name="adj1" fmla="val 289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1" name="_s1033"/>
            <p:cNvCxnSpPr>
              <a:stCxn id="328" idx="0"/>
              <a:endCxn id="330" idx="2"/>
            </p:cNvCxnSpPr>
            <p:nvPr/>
          </p:nvCxnSpPr>
          <p:spPr>
            <a:xfrm flipH="1" flipV="1" rot="5400000">
              <a:off x="2526480" y="823320"/>
              <a:ext cx="492120" cy="1914120"/>
            </a:xfrm>
            <a:prstGeom prst="bentConnector3">
              <a:avLst>
                <a:gd name="adj1" fmla="val 2891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0" name="_s1034"/>
            <p:cNvSpPr/>
            <p:nvPr/>
          </p:nvSpPr>
          <p:spPr>
            <a:xfrm>
              <a:off x="2294280" y="457200"/>
              <a:ext cx="2869920" cy="1058760"/>
            </a:xfrm>
            <a:prstGeom prst="bracketPair">
              <a:avLst>
                <a:gd name="adj" fmla="val 0"/>
              </a:avLst>
            </a:prstGeom>
            <a:solidFill>
              <a:srgbClr val="3333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Вина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_s1035"/>
            <p:cNvSpPr/>
            <p:nvPr/>
          </p:nvSpPr>
          <p:spPr>
            <a:xfrm>
              <a:off x="380880" y="2045520"/>
              <a:ext cx="2869920" cy="1058760"/>
            </a:xfrm>
            <a:prstGeom prst="bracketPair">
              <a:avLst>
                <a:gd name="adj" fmla="val 0"/>
              </a:avLst>
            </a:prstGeom>
            <a:solidFill>
              <a:srgbClr val="ffcf01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Умысе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_s1036"/>
            <p:cNvSpPr/>
            <p:nvPr/>
          </p:nvSpPr>
          <p:spPr>
            <a:xfrm>
              <a:off x="4207680" y="2045520"/>
              <a:ext cx="2869920" cy="1058760"/>
            </a:xfrm>
            <a:prstGeom prst="bracketPair">
              <a:avLst>
                <a:gd name="adj" fmla="val 0"/>
              </a:avLst>
            </a:prstGeom>
            <a:solidFill>
              <a:srgbClr val="ffcf01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Неосторожность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_s1037"/>
            <p:cNvSpPr/>
            <p:nvPr/>
          </p:nvSpPr>
          <p:spPr>
            <a:xfrm>
              <a:off x="380880" y="3633840"/>
              <a:ext cx="2869920" cy="1058760"/>
            </a:xfrm>
            <a:prstGeom prst="bracketPair">
              <a:avLst>
                <a:gd name="adj" fmla="val 0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рямо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лицо желало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следствий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_s1038"/>
            <p:cNvSpPr/>
            <p:nvPr/>
          </p:nvSpPr>
          <p:spPr>
            <a:xfrm>
              <a:off x="2294280" y="5222160"/>
              <a:ext cx="2869920" cy="1058760"/>
            </a:xfrm>
            <a:prstGeom prst="bracketPair">
              <a:avLst>
                <a:gd name="adj" fmla="val 0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освенны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лицо допускал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последствия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1039"/>
            <p:cNvSpPr/>
            <p:nvPr/>
          </p:nvSpPr>
          <p:spPr>
            <a:xfrm>
              <a:off x="4207680" y="3633840"/>
              <a:ext cx="2869920" cy="1054440"/>
            </a:xfrm>
            <a:prstGeom prst="bracketPair">
              <a:avLst>
                <a:gd name="adj" fmla="val 0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амонадеянно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рассчитывало избежа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последствий)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_s1040"/>
            <p:cNvSpPr/>
            <p:nvPr/>
          </p:nvSpPr>
          <p:spPr>
            <a:xfrm>
              <a:off x="6121080" y="5222160"/>
              <a:ext cx="2869920" cy="1054440"/>
            </a:xfrm>
            <a:prstGeom prst="bracketPair">
              <a:avLst>
                <a:gd name="adj" fmla="val 0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Халатно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могло предотврат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оследствия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Выполнит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, какое из нижеприведенных понятий не является признаком правонаруш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пас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пасные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арушение норм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причинение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туация 1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вятиклассники отдыхали в спортивном лагере. Петя Калашников, привез с собой видеокамеру. Когда он был на очередной тренировке, соседи по комнате Андрей и Сергей взяли видеокамеру и, пытаясь в ней разобраться, нечаянно сломали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туация 2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ргей шел домой. Рядом с домом Светланы он увидел Андрея, который тоже симпатизировал Светлане. Со словами: -"Я же предупреждал тебя, чтобы ты больше здесь не появлялся." Сергей начал бить Андрея,  в итоге,  Андрей получил телесные повреждения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туация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Девятиклассник Сидоров завязал драку в коридоре школы, в ходе которой было разбито большое окно. Директор школы вызвал родителей на пр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Organization Chart 8"/>
          <p:cNvGrpSpPr/>
          <p:nvPr/>
        </p:nvGrpSpPr>
        <p:grpSpPr>
          <a:xfrm>
            <a:off x="457200" y="762120"/>
            <a:ext cx="8381160" cy="5179680"/>
            <a:chOff x="457200" y="762120"/>
            <a:chExt cx="8381160" cy="5179680"/>
          </a:xfrm>
        </p:grpSpPr>
        <p:cxnSp>
          <p:nvCxnSpPr>
            <p:cNvPr id="338" name="_s2052"/>
            <p:cNvCxnSpPr>
              <a:stCxn id="339" idx="0"/>
              <a:endCxn id="340" idx="2"/>
            </p:cNvCxnSpPr>
            <p:nvPr/>
          </p:nvCxnSpPr>
          <p:spPr>
            <a:xfrm flipV="1" rot="16200000">
              <a:off x="5257800" y="2223000"/>
              <a:ext cx="1036440" cy="2256480"/>
            </a:xfrm>
            <a:prstGeom prst="bentConnector3">
              <a:avLst>
                <a:gd name="adj1" fmla="val 11014"/>
              </a:avLst>
            </a:prstGeom>
            <a:ln w="38160">
              <a:solidFill>
                <a:srgbClr val="00e4a8"/>
              </a:solidFill>
              <a:miter/>
            </a:ln>
          </p:spPr>
        </p:cxnSp>
        <p:cxnSp>
          <p:nvCxnSpPr>
            <p:cNvPr id="341" name="_s2053"/>
            <p:cNvCxnSpPr>
              <a:stCxn id="342" idx="0"/>
              <a:endCxn id="340" idx="2"/>
            </p:cNvCxnSpPr>
            <p:nvPr/>
          </p:nvCxnSpPr>
          <p:spPr>
            <a:xfrm flipH="1" flipV="1" rot="5400000">
              <a:off x="3001320" y="2222640"/>
              <a:ext cx="1036440" cy="2257560"/>
            </a:xfrm>
            <a:prstGeom prst="bentConnector3">
              <a:avLst>
                <a:gd name="adj1" fmla="val 11014"/>
              </a:avLst>
            </a:prstGeom>
            <a:ln w="38160">
              <a:solidFill>
                <a:srgbClr val="00e4a8"/>
              </a:solidFill>
              <a:miter/>
            </a:ln>
          </p:spPr>
        </p:cxnSp>
        <p:sp>
          <p:nvSpPr>
            <p:cNvPr id="340" name="_s2054"/>
            <p:cNvSpPr/>
            <p:nvPr/>
          </p:nvSpPr>
          <p:spPr>
            <a:xfrm>
              <a:off x="2714040" y="762120"/>
              <a:ext cx="3868200" cy="2071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правонарушения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_s2055"/>
            <p:cNvSpPr/>
            <p:nvPr/>
          </p:nvSpPr>
          <p:spPr>
            <a:xfrm>
              <a:off x="457200" y="3870000"/>
              <a:ext cx="3868200" cy="2071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проступок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_s2056"/>
            <p:cNvSpPr/>
            <p:nvPr/>
          </p:nvSpPr>
          <p:spPr>
            <a:xfrm>
              <a:off x="4970160" y="3870000"/>
              <a:ext cx="3868200" cy="2071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преступление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0-11-26T06:32:39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